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5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3.png" ContentType="image/png"/>
  <Override PartName="/ppt/media/image25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C40-535E-4718-9681-A38035C6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20C-C407-4374-9D24-23DB6D50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9E9-82BB-431E-A7CC-DC615221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63C-8BCE-4FB8-94D3-F293C1AB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FE97-C6AD-40BE-B58D-42BCCFD8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9CBA-A97C-449C-B563-C51BE317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E4B2-DDA8-4C4B-A06F-169B9A8F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F29F-D330-43B1-8138-EABDF8D7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C76E-2501-456D-B25A-31972D1F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0D46-AA8A-46C4-9164-1DB9E2B8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29BF-1619-474A-885C-988D4E9B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696-086B-4CCE-8D83-0554B8BF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8F58-A624-4F71-A1E8-A8EEB60B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F2F9-48AD-41FF-A024-13790750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9039-3A96-4B99-8B46-7357238F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4B2B-2E9E-478D-9162-ED0D5189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19A4-9948-4B4F-80E6-2D808739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942E-5479-420D-8B3B-1A1D3B46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1008-ED1C-42AB-A470-4CCE5B3B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C33A8-3310-4F10-AF4A-2C2526BA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26DB-3EEE-433C-AF5E-72FAB40B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CAEB5-12D8-40F8-8989-5CD3CA12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B04-35C6-4E95-AC11-5A2E9DCE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0868-77F8-4CEB-9316-BBC7F6A8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14F2-08B4-48A6-9C55-491051AE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5539-C5DC-4EB6-9772-87683FF3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0319-1B10-4A47-AD82-4C7E5F9C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5A3A-8D16-490D-93CB-7A923BAA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EEAEB-16A9-49F0-B95A-03757B67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F2A3C-055F-433F-BEA3-9B26676C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DC3-9A90-4879-B19C-43D12825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776-B44A-488D-8EE0-F3EF57AD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219-A078-40DD-9A2F-EE0E858B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0B0-129B-49FC-8533-2FD211B0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1D5-298D-49B6-A259-BD8F4E5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B40-7A35-4A9B-9A4B-5A47AAC5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A19C-329D-4F91-AD8A-425DE215E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8740-2282-455E-BDE1-C6FE1E230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324B-700A-41DE-B10F-812C61F3A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 Black"/>
              </a:rPr>
              <a:t>Section 35-2: The Nervous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32280" y="1905120"/>
            <a:ext cx="3485880" cy="4343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1676160" cy="1670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934320" y="2895480"/>
            <a:ext cx="157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649600" y="1266840"/>
            <a:ext cx="3875040" cy="4662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06760" y="2408400"/>
            <a:ext cx="87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s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6760" y="2062080"/>
            <a:ext cx="87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x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63920" y="3198960"/>
            <a:ext cx="87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xon termi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64000" y="36561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aptic cle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48440" y="39765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rotransmit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51360" y="2305080"/>
            <a:ext cx="8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cep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73560" y="1611360"/>
            <a:ext cx="153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ndrite of adjacent neur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1303200"/>
            <a:ext cx="20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rection of Impu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80880"/>
            <a:ext cx="8458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Synapse = junction between two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537080" cy="5105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895480" y="228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Diagram of a Synap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38280" y="4971960"/>
            <a:ext cx="7772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15000" y="198288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aptic Trans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144960" y="2378160"/>
            <a:ext cx="2741400" cy="20556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apse Ani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 of impulse is always the sa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 all or nothing response: An impulse either occurs or does not occur (like domino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um level of stimulation to cause an impulse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114800" y="4572000"/>
            <a:ext cx="14652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e Nervous System: Main Func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rvous system controls and coordinates functions throughout the body and responds to internal and external stimu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285408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. What are some specific functions of the Nervous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Receives sensory messages from the external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Organizes information and integrates it with already store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Sends out messages to muscles and glands, producing movement and secre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Allows for conscious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B. What makes up the Nervous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c unit of structure and function of the nervous system is 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eur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nerve cel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429000" y="2895480"/>
            <a:ext cx="2577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3886200" cy="2397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724280" y="816120"/>
            <a:ext cx="4038840" cy="2689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8305920" cy="2925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66688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ctures of Neu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C. What are the 3 Main Types of Neur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ensory Neurons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nsory = of the sen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eceive information from receptors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n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rneuron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ter- = betwe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relay messag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twe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otor Neu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otor = causing mo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instructions to effectors (glands or musc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2133720" y="2362320"/>
            <a:ext cx="761760" cy="722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4495680" y="2362320"/>
            <a:ext cx="1447920" cy="761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7391520" y="2362320"/>
            <a:ext cx="566640" cy="838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3581280" y="3962520"/>
            <a:ext cx="1905120" cy="1030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tretch/>
        </p:blipFill>
        <p:spPr>
          <a:xfrm>
            <a:off x="4343400" y="5715000"/>
            <a:ext cx="1073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34200" cy="370512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2034000" y="1903320"/>
            <a:ext cx="6550200" cy="3202200"/>
            <a:chOff x="2034000" y="1903320"/>
            <a:chExt cx="6550200" cy="3202200"/>
          </a:xfrm>
        </p:grpSpPr>
        <p:sp>
          <p:nvSpPr>
            <p:cNvPr id="229" name=""/>
            <p:cNvSpPr/>
            <p:nvPr/>
          </p:nvSpPr>
          <p:spPr>
            <a:xfrm>
              <a:off x="2034000" y="2513160"/>
              <a:ext cx="11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xon termina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52960" y="319896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elin sheat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60560" y="4799160"/>
              <a:ext cx="62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72640" y="274176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00"/>
                  </a:solidFill>
                  <a:latin typeface="Arial"/>
                </a:rPr>
                <a:t>Cell bod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5840" y="475308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Ax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87960" y="1903320"/>
              <a:ext cx="73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ucleu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49720" y="4829040"/>
              <a:ext cx="83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Dendri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581280" y="1295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00"/>
                </a:solidFill>
                <a:uFillTx/>
                <a:latin typeface="Arial"/>
              </a:rPr>
              <a:t>1. Cell body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: Contains the nucleus and other cell organel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5105520"/>
            <a:ext cx="2895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. Dendrite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           Short, branched extensions of the cell body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Func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receive stimuli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5116680"/>
            <a:ext cx="4191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3. Axon: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long, thin extension of the cell bod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*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Function: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sends nerve impulses away from the cell body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(Remember “A” for away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2286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. What is the Structure of a Neu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. How do Neurons Communic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ain is a monstrous, beautiful mess.  Its billions of nerve cells - called neurons – lie in a tangled web that displays cognitive powers far exceeding any of the silicon machines we have built to mimic i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William F. All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943600" y="1639800"/>
            <a:ext cx="2463840" cy="1878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6172200" y="3886200"/>
            <a:ext cx="2028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s for How Neurons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Dendrites receive the signal (action potential) which then travels down to the axon of the first neur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When the signal reaches the end of the axon, the axon releases chemicals calle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neurotransmitter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. acetylcholine, norepinephrine, dopamine, seroton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eurotransmitters enter into the space between the 2 neurons, called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ynaptic clef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Neurotransmitters bind to receptors on dendrites of the next neuron thereby passing on the sig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4T23:34:09Z</dcterms:created>
  <dc:creator>Theresa DeLaurentis</dc:creator>
  <dc:description/>
  <dc:language>en-US</dc:language>
  <cp:lastModifiedBy>Theresa DeLaurentis</cp:lastModifiedBy>
  <dcterms:modified xsi:type="dcterms:W3CDTF">2007-10-09T02:49:59Z</dcterms:modified>
  <cp:revision>10</cp:revision>
  <dc:subject/>
  <dc:title>Slide 1</dc:title>
</cp:coreProperties>
</file>